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8FE-5901-4F8A-B40C-0E75500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052C-3C53-4F87-A1AD-96481549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7D9-E792-440B-A20C-5229257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679-E1C5-47BA-972F-A6E7A612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A9C-4940-4409-9FF4-0E0CFE3F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1B1-6EE3-4EA9-B84A-E122DE6D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7C5-DD4A-48B6-A5A0-E529BC3F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8D9-84D7-4FC0-9F3B-E26695E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3E48-3595-46E2-96A3-2999DE64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44A-F056-49A9-9900-EA5A6EDA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614-1952-4DF7-95A0-DF8453E3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4FE-85DC-415A-99F3-0AFB7B2D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A82A-84A3-4A1D-8B55-96D97E653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1 byai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alibri"/>
              </a:rPr>
              <a:t>Your Ticket to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ei_enroute_3breakaway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nior Class Advisory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relate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: ready for the real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vic Responsibility: ready to be a productive citiz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ior “Stuff” (stadium picture, Grad Night, class meetin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cally, helping you make the transition from CDO to your futu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3:06:43Z</dcterms:created>
  <dc:creator>admin</dc:creator>
  <dc:description/>
  <dc:language>en-US</dc:language>
  <cp:lastModifiedBy>Leif Erickson</cp:lastModifiedBy>
  <dcterms:modified xsi:type="dcterms:W3CDTF">2011-06-09T04:23:37Z</dcterms:modified>
  <cp:revision>6</cp:revision>
  <dc:subject/>
  <dc:title>Senior Class Advisory</dc:title>
</cp:coreProperties>
</file>